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5E6-18DD-4DA2-BD9B-98D6A568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85B-2329-4225-B11E-5A28D35C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2B33-D2B3-41D9-9468-F51BDAC6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A6DB-7E83-4044-89C0-5AA935FC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8F9-0E43-41F8-8E05-867B17362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99A-A13C-4061-B909-33C8AAA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099B-8593-4EB6-B5CD-2FD61D29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1EC-FDEF-4F01-B669-79E62C5C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20C4-555D-4EA8-87C7-B544B040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119F-F79C-4321-8F66-36709A6E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389F-87FE-4AF4-831E-21967C3C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EA66-81FB-41C6-867E-E9349D0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1588-6A44-4583-ACB7-89C1CB2C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778880" y="6491160"/>
            <a:ext cx="13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C2AE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277640"/>
            <a:ext cx="914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TRODUCTION TO READINES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OPE STAT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the conclusion of this lesson, you (the student) will be familiar with the Personnel Readiness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8915400" cy="68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vision (co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dict personnel requirements based on current strength levels, projected gains, estimated losses, and the projected number of Soldiers and Army civilians returning to duty from medica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critical skills, and formulate recommendations for shortage resolution or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sess new equipment and weapons systems' impact on personne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ort personnel requirements to the corps 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division's force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d replacement allocation and priorities of fill to the division commander/division G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individual, squad, crew, or team replacements IAW the division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assignment fill plans to the replacement s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23184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r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corps personnel readiness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ordinate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, consolidate, analyze, and report unit strength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the status of critical comba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corps hasty personnel strength reporting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eive and consolidate personnel strength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mpare manual personnel strength information against the corps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reconciliation whenever discrepancies exist between manual personnel information and the corps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orps personnel str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duct readiness analysis, assess combat capabilities, and identify personnel requirements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rps (con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dict personnel requirements based on operating strength, required strength, estimated losses, projected replacements, and estimated number of Soldiers and Army civilians returning to duty from medica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and analyze critical skill inventories, and formulate recommendations for resolution or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and assess the personnel readiness impact of new equipment and weapon systems, and take action to satisfy personne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personnel portion of corps combat power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nd replacement priorities through the corps G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replacement priorities for the divisions to the theater P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individual, squad, crew, team, and return-to-duty corps replacements according to the corps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assignment fill plans to the DS replacement company for separate brigades and corps major subordinat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intra-corps reassignments to meet operation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35800"/>
            <a:ext cx="914400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a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theater personnel readiness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ater strength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theater Army commander on theater personnel read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Obtain and maintain readiness information on units deploying into the thea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, record, analyze, and report unit strengths to determine personnel requirements and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pare and maintain preestablished SHELF requi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duct readiness analysis, assess combat capabilities, and identify personnel readiness requirements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edict personnel requirements based on assigned strength, estimated lossess, and the projected number of Soldiers and Army civilians returning to duty from medical fac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-49320"/>
            <a:ext cx="9144000" cy="68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heater (co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Identify and analyze critical skill inventories, and formulate recommendations for resolution or compens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termine personnel requirements that new-equipment fielding may gen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nd replacement priorities to the theater Army DCSOPS through the DCS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xecute approved replacement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velop theater distribution plans to allocate replac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personnel replacements according to EAC/corps established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rovide distribution fill plans to the GS replacement battal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llocate replacements to corps/TAACOM and theater major subordinate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theater force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intra-theater reassignments to meet operation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9133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DINESS MANAGE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nalysis of personnel strength data to determine combat capabilities and project future requirements in order to achieve and maintain the highest possible state of readiness/combat effectiven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684720"/>
            <a:ext cx="914400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: HUMAN RESOURCE SPECIALISTS AND S1'S MUST BE INVOLVED. THEY ARE THE DATA MANAGERS WHO MANAGE THE STRENGTH OF THEIR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: THE COLLECTION OF STATISTICAL DATA REFLECTING THE CURRENT AND PROJECTED STRENGTH OF A NIT/BN/BDE/CORPS/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: CONTINUOUSLY. USR'S ARE CONDUCTED EVERY MONTH. WHEN THE HUMAN RESOURCE SPECIALIST/S1 STAY CURRENT WITH UNIT STRENGTH, THEY CAN ACCURATELY REPORT THE READINESS/STRENGTH DATA FOR THEIR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457200"/>
            <a:ext cx="91440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INESS MANAGEMENT (CO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: READINESS/STRENGTH MANAGEMENT OCCURS AT UNIT LEVEL ALL THE WAY UP TO AND INCLUDING ARMY LE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Y: WITH ACCURATE AND TIMELY READINESS/STRENGTH MANAGEMENT, THE ARMY'S END STRENGTH (REQUIRED/AUTHORIZED) CAN BE MET, THUS ENSURING UNITS RECEIVE THEIR FAIR SHARE OF REPLACEMENT PERSONNEL AND ARE MAINTAINED AT OPERATIONAL STR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: EACH UNIT/BN/BDE/DIV/ETC PREPARES READINESS REPORTS AND FORWARDS THEIR INPUT TO THEIR NEXT HIGHER HEADQUARTERS, WHO IN TURN REPORTS IT TO THE ARM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3240"/>
            <a:ext cx="8077320" cy="64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horized Level of Organization (AL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L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quired MTOE 10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9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8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7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6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5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4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3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2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1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Z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pprox. 0 perc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yp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xception, none of the above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*Taken from Para. 2-20b, AR 310-49 Slide 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528120"/>
            <a:ext cx="8452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ADINESS MANAGEMENT AREAS OF E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ERSONNEL REQUIREMENTS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ERSONNEL READIN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REQUIREMENT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RECONSTIT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NITIAL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BATTLEFIELD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64440"/>
            <a:ext cx="9144000" cy="69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ADINESS MANAGEMENT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attal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 and correlate critical personnel readines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the personnel status of critical comba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ordinate with the battalion S4 to determine combat equipment availability, and synchronize replacement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urrent personnel readiness status and forecast personnel status to support intelligence/logistics preparation of the battle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mmend replacement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sign individual, squad, crew, or team replacements IAW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ort critical personnel requirements for individual Soldiers and teams to the division PMC through the brigade S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an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2280" y="226440"/>
            <a:ext cx="88394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riga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 and correlate critical personnel readiness infor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critical combat team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ordinate with the S4 to determine combat equipment availability,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nchronize replacement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urrent and projected personnel readiness status to support intelligence/logistics preparation of the -Recommend replacement priorities battle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ssign individual, squad, crew, or team replacements IAW the commander's pri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port critical personnel requirements to the division P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Plan and coordinate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46520"/>
            <a:ext cx="9144000" cy="66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ivis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division's personnel readiness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nage the personnel portion of reconstitution oper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llect, consolidate, analyze, and report hasty personnel strength information to the corps PM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aintain information on the status of critical combat te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econcile differences between manual personnel information and the command data 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urrent and projected personnel readiness status to support intelligence/logistics preparation of the battle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dvise the commander on combat leader personnel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duct readiness analysis, assess combat capabilities, and identify personnel readiness requirements by skill and ran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rect intra-division reassignments to meet operational requir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14:37:04Z</dcterms:created>
  <dc:creator>Administrator</dc:creator>
  <dc:description/>
  <dc:language>en-US</dc:language>
  <cp:lastModifiedBy>Administrator</cp:lastModifiedBy>
  <dcterms:modified xsi:type="dcterms:W3CDTF">2005-07-07T12:54:21Z</dcterms:modified>
  <cp:revision>4</cp:revision>
  <dc:subject/>
  <dc:title>Slide 1</dc:title>
</cp:coreProperties>
</file>